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B7D-64D1-4AB5-87DA-445327B0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CB2-F6A3-46A1-AEED-D4A712B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D59-BDFF-4D78-B48D-7F9954BE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F61-9152-4341-8F2C-7DA03B38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1A0B1-E0EF-49DA-9736-B5C440DF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4D518-3708-4126-B806-052A49B8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40FBC-CED7-4701-95B2-1C3BD32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FCBC-F704-44C3-9B54-5F4F9675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2F8C1-AECB-454E-BA0D-EDEC9553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C821-2898-4F5C-A7F5-D7A3F252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D8643-817C-4991-A770-6ECBC5E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697-8DCC-4A90-9C4F-BE4C7795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9AFF2-DB5B-4559-920A-D27859B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A2DF7-B157-40D2-A517-CBD4003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E9EA-60BC-47C9-BF31-8ECDDAF4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ADBF5-DBC6-48C7-895F-C9B514CF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F4987-85FE-45AB-805A-8634C30A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529A-34D4-46F8-A16B-EAA96E6D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431D-EEA7-4B2D-B10B-DAD2076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554F-C452-4AED-9F99-EFCC1E66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E9C8-77C5-41F8-A1EF-06A4F318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BB34-9B51-4FE4-AE32-211FB902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E0B-251B-4BDA-8CD4-86E2F8D8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53E3-D99A-499A-B33C-865F4B4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26D3-93A5-4F9D-B1FC-61934BD5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2F57-8A1E-4E91-AE72-F262DFD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7369-B57D-4384-B56F-752CD7D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2801-7A9D-4EA9-BC34-D5B87F71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851F-8031-4A8E-A3B3-8A357369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6949-3568-42BE-AEF5-3C6502BB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3F3C3-2F59-4D30-A830-F056791C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F0631E-05CC-40BF-9B47-BF84FB5E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2F042-D8E0-434D-934C-003930F9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829-74EC-446D-A690-8C9EE9B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565DB-C0C7-4FA2-B4FE-E9CF2EA4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EEA1B-2524-405D-8884-0561FD2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5C97A-C485-4CB5-9C61-B72F12E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BDA8D-68D6-486D-B8E2-92593705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0D6B5-BCE2-48C5-BC2F-883DF6B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C177C-3385-4C82-AE8E-A472DED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F55ED-4E70-481D-B342-C39EFCF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9B61E-E8E6-4191-A02F-AF94CF7D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8CF04-8D23-4B45-A305-7F996A7B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31B-55E8-4DD8-B675-2874770B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801-C8C5-4585-A38C-CB2AE3FA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BB3-0E37-4BD7-8666-3F7B2E34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BAE-4599-410D-A9D0-594C051D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5E9-C1B9-4466-83C1-AFA7888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86F-3666-4755-BC26-9D4FCE0949F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A993-754B-479B-AAA1-F15BFC679B5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EC94-ED41-4AAE-BB43-4195982ED1F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6D10-303C-4E29-83AD-87E48C2C099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1"/>
          <p:cNvSpPr/>
          <p:nvPr/>
        </p:nvSpPr>
        <p:spPr>
          <a:xfrm>
            <a:off x="0" y="0"/>
            <a:ext cx="3352680" cy="6858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C:\Users\Farhangi\Desktop\download.jpg"/>
          <p:cNvPicPr/>
          <p:nvPr/>
        </p:nvPicPr>
        <p:blipFill>
          <a:blip r:embed="rId1"/>
          <a:srcRect l="0" t="3454" r="56901" b="0"/>
          <a:stretch/>
        </p:blipFill>
        <p:spPr>
          <a:xfrm>
            <a:off x="-457200" y="-22860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304920" y="228600"/>
            <a:ext cx="1876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7030a0"/>
                </a:solidFill>
                <a:latin typeface="IranNastaliq"/>
                <a:cs typeface="IranNastaliq"/>
              </a:rPr>
              <a:t>سوگواره یا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809880" y="345960"/>
            <a:ext cx="4572000" cy="10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2060"/>
                </a:solidFill>
                <a:latin typeface="Constantia"/>
                <a:cs typeface="B Davat"/>
              </a:rPr>
              <a:t>قابل توجه دانشجومعلمان گرام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به مناسبت فرارسیدن ایام فاطمیه(س) پردیس علامه طباطبایی ارومیه برنامه هایی در قالب های ادبی با عنوان </a:t>
            </a:r>
            <a:r>
              <a:rPr b="1" lang="fa-IR" sz="3200" spc="-1" strike="noStrike">
                <a:solidFill>
                  <a:srgbClr val="7030a0"/>
                </a:solidFill>
                <a:latin typeface="Constantia"/>
                <a:ea typeface="B Davat"/>
              </a:rPr>
              <a:t>”سوگواره یاس“ </a:t>
            </a: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برگزار می نمای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شع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داستان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دلنوش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قطعه ادب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خاطره نویسی و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ea typeface="B Davat"/>
              </a:rPr>
              <a:t> </a:t>
            </a:r>
            <a:r>
              <a:rPr b="1" lang="fa-IR" sz="2400" spc="-1" strike="noStrike">
                <a:solidFill>
                  <a:srgbClr val="002060"/>
                </a:solidFill>
                <a:latin typeface="Constantia"/>
                <a:cs typeface="B Davat"/>
              </a:rPr>
              <a:t>برای کلیه شرکت کنندگان گواهی شرکت صادر می گر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2060"/>
                </a:solidFill>
                <a:latin typeface="Constantia"/>
                <a:cs typeface="B Davat"/>
              </a:rPr>
              <a:t>نفرات برگزیده مورد تقدیر قرار خواهند گرف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C:\Users\Farhangi\Pictures\thLRRGAQES.jpg"/>
          <p:cNvPicPr/>
          <p:nvPr/>
        </p:nvPicPr>
        <p:blipFill>
          <a:blip r:embed="rId2"/>
          <a:stretch/>
        </p:blipFill>
        <p:spPr>
          <a:xfrm>
            <a:off x="8381880" y="76320"/>
            <a:ext cx="66528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Oval 9"/>
          <p:cNvSpPr/>
          <p:nvPr/>
        </p:nvSpPr>
        <p:spPr>
          <a:xfrm>
            <a:off x="3581280" y="2819520"/>
            <a:ext cx="3581640" cy="213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Constantia"/>
                <a:cs typeface="B Titr"/>
              </a:rPr>
              <a:t>مهلت تحویل آثار</a:t>
            </a:r>
            <a:r>
              <a:rPr b="1" lang="fa-IR" sz="2400" spc="-1" strike="noStrike">
                <a:solidFill>
                  <a:srgbClr val="ffff00"/>
                </a:solidFill>
                <a:latin typeface="Constantia"/>
                <a:ea typeface="B Titr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onstantia"/>
                <a:cs typeface="B Titr"/>
              </a:rPr>
              <a:t>دهم اسفند </a:t>
            </a:r>
            <a:r>
              <a:rPr b="1" lang="fa-IR" sz="2400" spc="-1" strike="noStrike">
                <a:solidFill>
                  <a:srgbClr val="ff0000"/>
                </a:solidFill>
                <a:latin typeface="Constantia"/>
                <a:ea typeface="B Titr"/>
              </a:rPr>
              <a:t>13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Constantia"/>
                <a:cs typeface="B Titr"/>
              </a:rPr>
              <a:t>مکان تحویل آثار</a:t>
            </a:r>
            <a:r>
              <a:rPr b="1" lang="fa-IR" sz="2400" spc="-1" strike="noStrike">
                <a:solidFill>
                  <a:srgbClr val="ffff00"/>
                </a:solidFill>
                <a:latin typeface="Constantia"/>
                <a:ea typeface="B Titr"/>
              </a:rPr>
              <a:t>:</a:t>
            </a:r>
            <a:r>
              <a:rPr b="1" lang="fa-IR" sz="2400" spc="-1" strike="noStrike">
                <a:solidFill>
                  <a:srgbClr val="7030a0"/>
                </a:solidFill>
                <a:latin typeface="Constantia"/>
                <a:ea typeface="B Tit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onstantia"/>
                <a:cs typeface="B Titr"/>
              </a:rPr>
              <a:t>امور فرهنگی دانشگا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C:\Users\Farhangi\Desktop\22.png"/>
          <p:cNvPicPr/>
          <p:nvPr/>
        </p:nvPicPr>
        <p:blipFill>
          <a:blip r:embed="rId3"/>
          <a:srcRect l="0" t="0" r="6503" b="4669"/>
          <a:stretch/>
        </p:blipFill>
        <p:spPr>
          <a:xfrm>
            <a:off x="-457200" y="3124080"/>
            <a:ext cx="3962520" cy="4038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 flipH="1">
            <a:off x="9144000" y="-228600"/>
            <a:ext cx="533520" cy="70866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C:\Users\Farhangi\Desktop\download.jpg"/>
          <p:cNvPicPr/>
          <p:nvPr/>
        </p:nvPicPr>
        <p:blipFill>
          <a:blip r:embed="rId4"/>
          <a:srcRect l="0" t="3454" r="56901" b="0"/>
          <a:stretch/>
        </p:blipFill>
        <p:spPr>
          <a:xfrm>
            <a:off x="3505320" y="-228600"/>
            <a:ext cx="624816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Farhangi\Desktop\download.jpg"/>
          <p:cNvPicPr/>
          <p:nvPr/>
        </p:nvPicPr>
        <p:blipFill>
          <a:blip r:embed="rId5"/>
          <a:srcRect l="0" t="3454" r="56901" b="0"/>
          <a:stretch/>
        </p:blipFill>
        <p:spPr>
          <a:xfrm>
            <a:off x="-304920" y="6858000"/>
            <a:ext cx="1005840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Farhangi\Desktop\download.jpg"/>
          <p:cNvPicPr/>
          <p:nvPr/>
        </p:nvPicPr>
        <p:blipFill>
          <a:blip r:embed="rId6"/>
          <a:srcRect l="0" t="3454" r="56901" b="0"/>
          <a:stretch/>
        </p:blipFill>
        <p:spPr>
          <a:xfrm>
            <a:off x="914400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Farhangi\Desktop\download.jpg"/>
          <p:cNvPicPr/>
          <p:nvPr/>
        </p:nvPicPr>
        <p:blipFill>
          <a:blip r:embed="rId7"/>
          <a:srcRect l="0" t="3454" r="56901" b="0"/>
          <a:stretch/>
        </p:blipFill>
        <p:spPr>
          <a:xfrm>
            <a:off x="-457200" y="3048120"/>
            <a:ext cx="30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rhangi</dc:creator>
  <dc:description/>
  <dc:language>en-US</dc:language>
  <cp:lastModifiedBy>Farhangi</cp:lastModifiedBy>
  <dcterms:modified xsi:type="dcterms:W3CDTF">2017-02-12T12:14:14Z</dcterms:modified>
  <cp:revision>6</cp:revision>
  <dc:subject/>
  <dc:title>Slide 1</dc:title>
</cp:coreProperties>
</file>