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709-2C38-47CD-B539-FCD399EA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054-3877-4CFD-9398-B6751702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7E5-2F13-4EDE-BF11-C9120F4F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2A-B717-4FB9-AAE0-E4528295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CC729-B188-4634-99A1-95BC0D89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71156-76FF-4F09-8649-77365AFC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EE69-B75B-4A38-A040-AD01908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5C9EE-9A44-4298-9151-DD594883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2836-365E-4A3A-B389-A8851393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87E18-5834-4F73-AD5D-AC7553C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B2172-780F-4A91-956C-AF18A1F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3A8-FFE4-4ACF-BCB3-BDC3876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5EBAB-E643-47C9-B3E2-310E40B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4998F-C17A-49A9-9048-D3BB75B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44BE3-2258-4C70-B71E-487BB1B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D2F36-CDAB-484F-9AF5-9100F11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1B2A3-1214-4817-9058-4DAE8B83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CDA9-08CB-4D92-887F-8EB2E108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88B7-F77B-49DE-8F12-FF6DD84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478F-F322-428C-853D-5B86D565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6EBD-0CA9-4473-969A-4B417BB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01E7-B6C4-49FB-8C88-2F45D19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F28-DF38-4F20-9A3A-91441C2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43CD-322D-4920-8C00-8F5477B4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9566-C5BD-4FC3-8281-B8F9AE6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C8AF-1A36-4850-9FAA-44516E0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8FD7-F85F-49D1-BBB6-3ACD112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3429-190E-4A48-9241-1CF5C915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3484-CCA0-4E54-A7CF-62047FDD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DF92-8AD5-4E77-80BB-641E8FE6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53D24-2D7D-4084-AF10-729E70DC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C5357-D339-42B3-9685-C1AF643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699AF-E4D4-4977-A0FF-7C9823A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8C0-19F6-4158-9A8B-8C33CBA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17E49-57E7-4DFC-BE4F-571B85D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95ABD-1132-4043-AB63-EC20E807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44850-7C4B-4A4B-930C-F39644C5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C5EAF-9CBE-4A8D-8B03-9A4806A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C1BB3-4066-4F28-B71F-4A23968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2B075-E463-4082-A47C-F228764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693A3-1FF9-41E5-B9B3-2ABB395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C72F0-A156-49CB-AC63-717751B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21908-678E-4112-84BF-CF4795E8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909-96F1-4888-8182-45CFD08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027-58B8-42AD-9E48-C4F6342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3AD-4B2A-4EA0-AB56-1503C7A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9F5-0EAB-4BFC-84CA-1F57D4A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477-D3CA-4FA5-B364-2AAD4B9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EFA-C112-4AB7-BCF7-7A5D908250D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336E-CAAD-4C04-B541-5CC2A4A0A53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FA1-3030-4BDD-85FD-D8920B11363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C71-38B5-4B91-9157-12D5FB210A2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C:\Users\Farhangi\Desktop\download.jpg"/>
          <p:cNvPicPr/>
          <p:nvPr/>
        </p:nvPicPr>
        <p:blipFill>
          <a:blip r:embed="rId1"/>
          <a:srcRect l="0" t="3454" r="56901" b="0"/>
          <a:stretch/>
        </p:blipFill>
        <p:spPr>
          <a:xfrm>
            <a:off x="-457200" y="-22860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304920" y="22860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7030a0"/>
                </a:solidFill>
                <a:latin typeface="IranNastaliq"/>
                <a:cs typeface="IranNastaliq"/>
              </a:rPr>
              <a:t>سوگواره یا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809880" y="345960"/>
            <a:ext cx="4572000" cy="10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2060"/>
                </a:solidFill>
                <a:latin typeface="Constantia"/>
                <a:cs typeface="B Davat"/>
              </a:rPr>
              <a:t>قابل توجه دانشجومعلمان گرام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ه مناسبت فرارسیدن ایام فاطمیه(س) پردیس علامه طباطبایی ارومیه برنامه هایی در قالب های ادبی با عنوان </a:t>
            </a:r>
            <a:r>
              <a:rPr b="1" lang="fa-IR" sz="3200" spc="-1" strike="noStrike">
                <a:solidFill>
                  <a:srgbClr val="7030a0"/>
                </a:solidFill>
                <a:latin typeface="Constantia"/>
                <a:ea typeface="B Davat"/>
              </a:rPr>
              <a:t>”سوگواره یاس“ </a:t>
            </a: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رگزار می نمای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شع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استان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لنوش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قطعه ادب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خاطره نویسی و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ea typeface="B Davat"/>
              </a:rPr>
              <a:t> </a:t>
            </a: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برای کلیه شرکت کنندگان گواهی شرکت صادر می گر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نفرات برگزیده مورد تقدیر قرار خواهند گرف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C:\Users\Farhangi\Pictures\thLRRGAQES.jpg"/>
          <p:cNvPicPr/>
          <p:nvPr/>
        </p:nvPicPr>
        <p:blipFill>
          <a:blip r:embed="rId2"/>
          <a:stretch/>
        </p:blipFill>
        <p:spPr>
          <a:xfrm>
            <a:off x="8381880" y="76320"/>
            <a:ext cx="66528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3581280" y="2819520"/>
            <a:ext cx="358164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هلت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دهم اسفند </a:t>
            </a:r>
            <a:r>
              <a:rPr b="1" lang="fa-IR" sz="2400" spc="-1" strike="noStrike">
                <a:solidFill>
                  <a:srgbClr val="ff0000"/>
                </a:solidFill>
                <a:latin typeface="Constantia"/>
                <a:ea typeface="B Titr"/>
              </a:rPr>
              <a:t>13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کان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</a:t>
            </a:r>
            <a:r>
              <a:rPr b="1" lang="fa-IR" sz="2400" spc="-1" strike="noStrike">
                <a:solidFill>
                  <a:srgbClr val="7030a0"/>
                </a:solidFill>
                <a:latin typeface="Constantia"/>
                <a:ea typeface="B Tit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امور فرهنگی دانشگ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C:\Users\Farhangi\Desktop\22.png"/>
          <p:cNvPicPr/>
          <p:nvPr/>
        </p:nvPicPr>
        <p:blipFill>
          <a:blip r:embed="rId3"/>
          <a:srcRect l="0" t="0" r="6503" b="4669"/>
          <a:stretch/>
        </p:blipFill>
        <p:spPr>
          <a:xfrm>
            <a:off x="-457200" y="3124080"/>
            <a:ext cx="3962520" cy="4038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 flipH="1">
            <a:off x="9144000" y="-228600"/>
            <a:ext cx="533520" cy="7086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C:\Users\Farhangi\Desktop\download.jpg"/>
          <p:cNvPicPr/>
          <p:nvPr/>
        </p:nvPicPr>
        <p:blipFill>
          <a:blip r:embed="rId4"/>
          <a:srcRect l="0" t="3454" r="56901" b="0"/>
          <a:stretch/>
        </p:blipFill>
        <p:spPr>
          <a:xfrm>
            <a:off x="3505320" y="-228600"/>
            <a:ext cx="62481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Farhangi\Desktop\download.jpg"/>
          <p:cNvPicPr/>
          <p:nvPr/>
        </p:nvPicPr>
        <p:blipFill>
          <a:blip r:embed="rId5"/>
          <a:srcRect l="0" t="3454" r="56901" b="0"/>
          <a:stretch/>
        </p:blipFill>
        <p:spPr>
          <a:xfrm>
            <a:off x="-304920" y="6858000"/>
            <a:ext cx="1005840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Farhangi\Desktop\download.jpg"/>
          <p:cNvPicPr/>
          <p:nvPr/>
        </p:nvPicPr>
        <p:blipFill>
          <a:blip r:embed="rId6"/>
          <a:srcRect l="0" t="3454" r="56901" b="0"/>
          <a:stretch/>
        </p:blipFill>
        <p:spPr>
          <a:xfrm>
            <a:off x="914400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Farhangi\Desktop\download.jpg"/>
          <p:cNvPicPr/>
          <p:nvPr/>
        </p:nvPicPr>
        <p:blipFill>
          <a:blip r:embed="rId7"/>
          <a:srcRect l="0" t="3454" r="56901" b="0"/>
          <a:stretch/>
        </p:blipFill>
        <p:spPr>
          <a:xfrm>
            <a:off x="-457200" y="3048120"/>
            <a:ext cx="30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rhangi</dc:creator>
  <dc:description/>
  <dc:language>en-US</dc:language>
  <cp:lastModifiedBy>Farhangi</cp:lastModifiedBy>
  <dcterms:modified xsi:type="dcterms:W3CDTF">2017-02-12T12:14:14Z</dcterms:modified>
  <cp:revision>6</cp:revision>
  <dc:subject/>
  <dc:title>Slide 1</dc:title>
</cp:coreProperties>
</file>