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392-377E-4C8C-BE23-128447C3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6C2-5274-492A-92E9-6A3F259F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CF1-9E1B-42F1-82BD-4D026E82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34D-ECC6-4187-8A13-696A61AB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CBCC9-9E32-431F-B1F9-B76935C8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8E337-FFD2-460D-9D02-A3B8A80F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9EA80-07D2-49B4-A4F6-3AEE091B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B5275-5B90-4FA9-BEDC-410A41BC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68E98-A90F-4F00-9CCF-8355071F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6E9BF-CEF7-4F73-87A1-35B43A04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35305-FAF7-4B48-AAA9-6B570F5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112-6676-4B0F-850D-7F5F927F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4009C-D2B4-41D7-AE59-4A2C94E5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12996-DFE5-4CA6-B57B-AD3B6D14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74159-146E-4802-84A4-E2FC7CE7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39B2C-BD19-4C83-9B3A-593752C0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CE1AB-12AE-4079-AC40-A1206A6B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E683-94E3-46E0-B1EF-695EBE94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31AED-7F0A-43A5-9B9B-2BA4070E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3BFA6-C2B1-4340-986D-E1C643C9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E06ED-C5AD-45C0-B8A3-840D4AB9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83F5F-C975-4A1E-B9BF-BEAB68A5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492-B3E3-4DA4-AFB0-30A1F8BF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4A25D-45EA-412E-96D9-F5BE4F2B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E845-8665-449D-8009-F95D404A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F3381-3FE3-4EBE-BBFA-A68B2147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03C13-5A57-456C-B87E-AB815E85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6DBF5-A83F-4439-90C5-35196FC0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D22F-B29C-4937-A86C-F2330286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0AEB3-FE13-4A90-A9F2-645F8424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589474-DDA7-4BA9-B39E-4DF4CD06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8861A0-B8B5-4F79-B68C-F8C6CC0D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47346A-7F8F-4F4B-A465-09F4698D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B4D-B15B-41EA-A48D-9AC5B7FA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10F384-0CEE-4FC0-9F93-C101BADF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CB81BE-2024-4743-A05B-7838BF26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8879AE-3FD5-4FFE-BB50-814CD65D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5D1282-6246-4418-9B56-501130BB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AD9FC3-162E-4F3E-A26F-38467088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A987D9-D036-4606-AB3A-0F59C174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C78741-CA30-44AF-904A-AD1298FB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6B211-A920-40F4-A02F-CAC9DC22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850D10-054B-461E-8C1C-97D693E8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8D4-8D03-4802-ABA9-3210D8A0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63C5-7E2A-4AE6-983C-0B37344B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A59-0EC6-486E-960C-FE90AE93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32F-6ACC-46E6-9A31-9C014076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CD5-D9E9-418D-914E-32AEA9D8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E134-7A10-4252-A966-41E51970DAD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8998-C74D-489A-9F47-BA78362CEFA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BE0A-D0A4-44AB-889A-5490E3D6223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D417-4777-4ED1-B2A0-E524D7D396A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1"/>
          <p:cNvSpPr/>
          <p:nvPr/>
        </p:nvSpPr>
        <p:spPr>
          <a:xfrm>
            <a:off x="0" y="0"/>
            <a:ext cx="3352680" cy="68580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C:\Users\Farhangi\Desktop\download.jpg"/>
          <p:cNvPicPr/>
          <p:nvPr/>
        </p:nvPicPr>
        <p:blipFill>
          <a:blip r:embed="rId1"/>
          <a:srcRect l="0" t="3454" r="56901" b="0"/>
          <a:stretch/>
        </p:blipFill>
        <p:spPr>
          <a:xfrm>
            <a:off x="-457200" y="-228600"/>
            <a:ext cx="3962520" cy="3505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304920" y="228600"/>
            <a:ext cx="1876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7030a0"/>
                </a:solidFill>
                <a:latin typeface="IranNastaliq"/>
                <a:cs typeface="IranNastaliq"/>
              </a:rPr>
              <a:t>سوگواره یا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3809880" y="345960"/>
            <a:ext cx="4572000" cy="10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2060"/>
                </a:solidFill>
                <a:latin typeface="Constantia"/>
                <a:cs typeface="B Davat"/>
              </a:rPr>
              <a:t>قابل توجه دانشجومعلمان گرام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به مناسبت فرارسیدن ایام فاطمیه(س) پردیس علامه طباطبایی ارومیه برنامه هایی در قالب های ادبی با عنوان </a:t>
            </a:r>
            <a:r>
              <a:rPr b="1" lang="fa-IR" sz="3200" spc="-1" strike="noStrike">
                <a:solidFill>
                  <a:srgbClr val="7030a0"/>
                </a:solidFill>
                <a:latin typeface="Constantia"/>
                <a:ea typeface="B Davat"/>
              </a:rPr>
              <a:t>”سوگواره یاس“ </a:t>
            </a: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برگزار می نماید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شع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داستان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دلنوشت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قطعه ادب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cs typeface="B Davat"/>
              </a:rPr>
              <a:t>خاطره نویسی و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Constantia"/>
                <a:ea typeface="B Davat"/>
              </a:rPr>
              <a:t> </a:t>
            </a:r>
            <a:r>
              <a:rPr b="1" lang="fa-IR" sz="2400" spc="-1" strike="noStrike">
                <a:solidFill>
                  <a:srgbClr val="002060"/>
                </a:solidFill>
                <a:latin typeface="Constantia"/>
                <a:cs typeface="B Davat"/>
              </a:rPr>
              <a:t>برای کلیه شرکت کنندگان گواهی شرکت صادر می گرد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2060"/>
                </a:solidFill>
                <a:latin typeface="Constantia"/>
                <a:cs typeface="B Davat"/>
              </a:rPr>
              <a:t>نفرات برگزیده مورد تقدیر قرار خواهند گرف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8" descr="C:\Users\Farhangi\Pictures\thLRRGAQES.jpg"/>
          <p:cNvPicPr/>
          <p:nvPr/>
        </p:nvPicPr>
        <p:blipFill>
          <a:blip r:embed="rId2"/>
          <a:stretch/>
        </p:blipFill>
        <p:spPr>
          <a:xfrm>
            <a:off x="8381880" y="76320"/>
            <a:ext cx="66528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Oval 9"/>
          <p:cNvSpPr/>
          <p:nvPr/>
        </p:nvSpPr>
        <p:spPr>
          <a:xfrm>
            <a:off x="3581280" y="2819520"/>
            <a:ext cx="3581640" cy="2133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Constantia"/>
                <a:cs typeface="B Titr"/>
              </a:rPr>
              <a:t>مهلت تحویل آثار</a:t>
            </a:r>
            <a:r>
              <a:rPr b="1" lang="fa-IR" sz="2400" spc="-1" strike="noStrike">
                <a:solidFill>
                  <a:srgbClr val="ffff00"/>
                </a:solidFill>
                <a:latin typeface="Constantia"/>
                <a:ea typeface="B Titr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onstantia"/>
                <a:cs typeface="B Titr"/>
              </a:rPr>
              <a:t>دهم اسفند </a:t>
            </a:r>
            <a:r>
              <a:rPr b="1" lang="fa-IR" sz="2400" spc="-1" strike="noStrike">
                <a:solidFill>
                  <a:srgbClr val="ff0000"/>
                </a:solidFill>
                <a:latin typeface="Constantia"/>
                <a:ea typeface="B Titr"/>
              </a:rPr>
              <a:t>13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Constantia"/>
                <a:cs typeface="B Titr"/>
              </a:rPr>
              <a:t>مکان تحویل آثار</a:t>
            </a:r>
            <a:r>
              <a:rPr b="1" lang="fa-IR" sz="2400" spc="-1" strike="noStrike">
                <a:solidFill>
                  <a:srgbClr val="ffff00"/>
                </a:solidFill>
                <a:latin typeface="Constantia"/>
                <a:ea typeface="B Titr"/>
              </a:rPr>
              <a:t>:</a:t>
            </a:r>
            <a:r>
              <a:rPr b="1" lang="fa-IR" sz="2400" spc="-1" strike="noStrike">
                <a:solidFill>
                  <a:srgbClr val="7030a0"/>
                </a:solidFill>
                <a:latin typeface="Constantia"/>
                <a:ea typeface="B Titr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onstantia"/>
                <a:cs typeface="B Titr"/>
              </a:rPr>
              <a:t>امور فرهنگی دانشگا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3" descr="C:\Users\Farhangi\Desktop\22.png"/>
          <p:cNvPicPr/>
          <p:nvPr/>
        </p:nvPicPr>
        <p:blipFill>
          <a:blip r:embed="rId3"/>
          <a:srcRect l="0" t="0" r="6503" b="4669"/>
          <a:stretch/>
        </p:blipFill>
        <p:spPr>
          <a:xfrm>
            <a:off x="-457200" y="3124080"/>
            <a:ext cx="3962520" cy="4038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 flipH="1">
            <a:off x="9144000" y="-228600"/>
            <a:ext cx="533520" cy="70866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C:\Users\Farhangi\Desktop\download.jpg"/>
          <p:cNvPicPr/>
          <p:nvPr/>
        </p:nvPicPr>
        <p:blipFill>
          <a:blip r:embed="rId4"/>
          <a:srcRect l="0" t="3454" r="56901" b="0"/>
          <a:stretch/>
        </p:blipFill>
        <p:spPr>
          <a:xfrm>
            <a:off x="3505320" y="-228600"/>
            <a:ext cx="6248160" cy="228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Users\Farhangi\Desktop\download.jpg"/>
          <p:cNvPicPr/>
          <p:nvPr/>
        </p:nvPicPr>
        <p:blipFill>
          <a:blip r:embed="rId5"/>
          <a:srcRect l="0" t="3454" r="56901" b="0"/>
          <a:stretch/>
        </p:blipFill>
        <p:spPr>
          <a:xfrm>
            <a:off x="-304920" y="6858000"/>
            <a:ext cx="1005840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Users\Farhangi\Desktop\download.jpg"/>
          <p:cNvPicPr/>
          <p:nvPr/>
        </p:nvPicPr>
        <p:blipFill>
          <a:blip r:embed="rId6"/>
          <a:srcRect l="0" t="3454" r="56901" b="0"/>
          <a:stretch/>
        </p:blipFill>
        <p:spPr>
          <a:xfrm>
            <a:off x="914400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C:\Users\Farhangi\Desktop\download.jpg"/>
          <p:cNvPicPr/>
          <p:nvPr/>
        </p:nvPicPr>
        <p:blipFill>
          <a:blip r:embed="rId7"/>
          <a:srcRect l="0" t="3454" r="56901" b="0"/>
          <a:stretch/>
        </p:blipFill>
        <p:spPr>
          <a:xfrm>
            <a:off x="-457200" y="3048120"/>
            <a:ext cx="304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rhangi</dc:creator>
  <dc:description/>
  <dc:language>en-US</dc:language>
  <cp:lastModifiedBy>Farhangi</cp:lastModifiedBy>
  <dcterms:modified xsi:type="dcterms:W3CDTF">2017-02-12T12:14:14Z</dcterms:modified>
  <cp:revision>6</cp:revision>
  <dc:subject/>
  <dc:title>Slide 1</dc:title>
</cp:coreProperties>
</file>